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7006-9518-4669-A8C1-B4C3D716D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C580-D6F4-4342-857B-4388A1BE6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6CF8-B1F2-4692-95EE-4BAB56AA7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C2AC-72E4-4884-8EA6-58722CACB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635B-0FE7-44B4-A607-1FE4FCE2F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CC42-5DA4-4B83-B055-A19041372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7325-2834-4065-A19F-5BC5EC210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02A4-4BBC-4ECA-B171-7B2FF3D7E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3277-2119-4687-8D6B-25034E369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5E58-77D3-459C-80C8-F64075505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C29FB-3CB1-46A9-A56B-5A2C30EBE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36D90-E9BF-4B49-9513-3BFE3A4E4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8D23-B8BE-4C81-9211-812531699FF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teachfuture/eva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60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560" y="377172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</a:t>
            </a:r>
            <a:r>
              <a:rPr b="1" lang="ro-RO" sz="3600" spc="-1" strike="noStrike">
                <a:solidFill>
                  <a:srgbClr val="ffffff"/>
                </a:solidFill>
                <a:latin typeface="Verdana"/>
              </a:rPr>
              <a:t>redarea în societatea cunoaşterii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06400" y="49622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Modulul 8: </a:t>
            </a:r>
            <a:r>
              <a:rPr b="0" lang="ro-RO" sz="3600" spc="-1" strike="noStrike">
                <a:solidFill>
                  <a:srgbClr val="ffffff"/>
                </a:solidFill>
                <a:latin typeface="Verdana"/>
              </a:rPr>
              <a:t>Prezentarea portofoliilor Unităţilor de Învăţar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759720" y="490680"/>
            <a:ext cx="1774800" cy="885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618336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754520" y="196920"/>
            <a:ext cx="4170240" cy="15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Modul 8: Prezentarea portofoliilor unităţilor de învăţare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ea 4: Evaluarea cursului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20 minute)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89640" y="1828800"/>
            <a:ext cx="44402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1349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letarea evaluării onli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rmaţi instrucţiunile  de la pagina 8.13, pentru a evalua cursul Intel®Teach - Predarea în societatea cunoaşterii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teachfuture/eval</a:t>
            </a:r>
            <a:r>
              <a:rPr b="0" lang="ro-RO" sz="1600" spc="-1" strike="noStrike">
                <a:solidFill>
                  <a:srgbClr val="003399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349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D-ul clasei: ___________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349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D-ul profesor master: ___________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Notă: Evaluarea include mai multe pagini. Nu veţi putea apăsa butonul Back, pentru a modifica răspunsur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1258920" indent="0" algn="just"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84520" cy="599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C254-29CB-4D30-8AC4-7062C14A80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760" y="53640"/>
            <a:ext cx="4294440" cy="12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Modul 8: Prezentarea portofoliilor unităţilor de învăţare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5: Finalizarea cursului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25 minute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1120" y="1704960"/>
            <a:ext cx="41738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Revizuirea Modululu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(8.1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6676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Întrebările modululu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6676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pregăti şi cum pot facilita o prezentare eficientă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6676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oferi feedback constructiv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6676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uncte-cheie ale Modulului 8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6676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trategii pentru administrarea utilizării calculatoarelor şi pentru elaborarea unor documente utile pentru implementarea unităţii de învăţar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6676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venimente - cum ar fi o prezentare - care permit comunităţii largi să ofere feedback elevilor şi să sărbătorească realizările acestora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52840" y="0"/>
            <a:ext cx="4691160" cy="601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F7D67-9F68-4BA2-BE52-6151DAC2FE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3120" y="1228320"/>
            <a:ext cx="863136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0" algn="just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Reflecţie asupra cursulu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8.14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 algn="just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aţi răspunde la întrebarea esenţială a cursului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aa014c"/>
                </a:solidFill>
                <a:latin typeface="Verdana"/>
              </a:rPr>
              <a:t>Cum poate fi cel mai eficient folosită tehnologia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7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aa014c"/>
                </a:solidFill>
                <a:latin typeface="Verdana"/>
              </a:rPr>
              <a:t>pentru a susţine şi a evalua achiziţiile elevilor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blog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-ul personal, reflectaţi asupra activităţilor, asupra abilităţilor şi abordărilor discutate în acest modul şi în întregul cur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Luaţi în considerare întrebări precum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1352520" indent="-3236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mă pot pregăti şi cum pot facilita o prezentare eficientă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52520" indent="-3236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oferi feedback constructiv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52520" indent="-3236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are consideraţi că este cel mai valoros element al cursului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52520" indent="-3236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vă influenţează pregătirea primită practicile de predare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52520" indent="-3236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in tot ce aţi învăţat, ce anume credeţi că va avea cel mai mare impact asupra activităţilor de învăţare a elevilor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64960" y="-3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 8: Prezentarea portofoliilor unităţilor de învăţare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5: Finalizarea cursului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2DB2-AEC6-43D4-B401-59080B9A40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1360" y="4437000"/>
            <a:ext cx="2787480" cy="1147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513480" y="4548240"/>
            <a:ext cx="2263680" cy="11304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4960" y="-3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 8: Prezentarea portofoliilor unităţilor de învăţare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5: Finalizarea cursului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3560" y="1047240"/>
            <a:ext cx="8475480" cy="46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3: Încheierea cursulu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siguraţi-vă că aveţi toate fişierele şi materialele cursului de formare Intel</a:t>
            </a:r>
            <a:r>
              <a:rPr b="0" lang="ro-RO" sz="18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Teach – Predarea în societatea cunoaşteri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aa014c"/>
                </a:solidFill>
                <a:latin typeface="Verdana"/>
              </a:rPr>
              <a:t>Felicitări pentru terminarea cu succes a cursului de formare </a:t>
            </a:r>
            <a:r>
              <a:rPr b="1" lang="ro-RO" sz="2400" spc="-1" strike="noStrike">
                <a:solidFill>
                  <a:srgbClr val="aa014c"/>
                </a:solidFill>
                <a:latin typeface="Verdana"/>
              </a:rPr>
              <a:t>Intel</a:t>
            </a:r>
            <a:r>
              <a:rPr b="1" lang="ro-RO" sz="2400" spc="-1" strike="noStrike" baseline="30000">
                <a:solidFill>
                  <a:srgbClr val="aa014c"/>
                </a:solidFill>
                <a:latin typeface="Verdana"/>
              </a:rPr>
              <a:t>®</a:t>
            </a:r>
            <a:r>
              <a:rPr b="1" lang="ro-RO" sz="2400" spc="-1" strike="noStrike">
                <a:solidFill>
                  <a:srgbClr val="aa014c"/>
                </a:solidFill>
                <a:latin typeface="Verdana"/>
              </a:rPr>
              <a:t>Teach - Predarea în societatea cunoaşterii</a:t>
            </a:r>
            <a:r>
              <a:rPr b="0" lang="ro-RO" sz="2400" spc="-1" strike="noStrike">
                <a:solidFill>
                  <a:srgbClr val="aa014c"/>
                </a:solidFill>
                <a:latin typeface="Verdana"/>
              </a:rPr>
              <a:t>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Vă este înmânat un Certificat de participare, pentru a vă recunoaşte eforturi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0300-CD4D-4963-A392-A4E0C99C5C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1300320"/>
            <a:ext cx="4851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5034960" y="49021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B1E9B-3288-469E-83DB-378E9F9108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e am studiat până acum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8040" y="971280"/>
            <a:ext cx="860904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Modul 1: Predarea bazată pe proiec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Bazele învăţării prin proiecte şi design-ul unităţii de învăţ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Modul 2: Planificarea propriei unităţi de învăţ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zvoltarea întrebărilor de încadrare a curriculumului şi evaluarea continuă centrată pe elev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Modul 3 Realizarea conexiunil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nternetul ca suport pentru predare şi învăţ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Modul 4: Crearea eşantioanelor  de învăţ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ezultatele proiectelor elevilor (prezentări, publicaţii, wiki, blog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Modul 5: Evaluarea proiectelor elevil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valuarea formativă şi sumativă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Modul 6: Planificarea pentru succesul elevulu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prijinul elevilor si auto-direcţion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Modul 7: Facilitarea prin Tehnologi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rofesorul drept facilitat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B5C1-8071-49AF-81A1-7D9D16F9C5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5200" y="4443480"/>
            <a:ext cx="85773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Modulul 8: Prezentarea portofoliilor unităţilor de învăţa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9FFA-CA8D-4FA0-B532-83B67CE23F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Unde suntem 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22200" y="714240"/>
          <a:ext cx="8510760" cy="3375000"/>
        </p:xfrm>
        <a:graphic>
          <a:graphicData uri="http://schemas.openxmlformats.org/drawingml/2006/table">
            <a:tbl>
              <a:tblPr/>
              <a:tblGrid>
                <a:gridCol w="2506680"/>
                <a:gridCol w="6004080"/>
              </a:tblGrid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ul 8: 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zentarea portofoliilor Unităţilor de Învăţare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Focus: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mpărtă</a:t>
                      </a:r>
                      <a:r>
                        <a:rPr b="1" lang="ro-RO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1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rea învă</a:t>
                      </a:r>
                      <a:r>
                        <a:rPr b="1" lang="ro-RO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1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rii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zultate:</a:t>
                      </a:r>
                      <a:r>
                        <a:rPr b="0" lang="ro-RO" sz="1900" spc="-1" strike="noStrike">
                          <a:solidFill>
                            <a:srgbClr val="ff5c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 algn="just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9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naliza aplicării tehnologiei prin metoda proiectului în diferite </a:t>
                      </a:r>
                      <a:r>
                        <a:rPr b="0" lang="ro-RO" sz="19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nităţi de Învăţare</a:t>
                      </a:r>
                      <a:r>
                        <a:rPr b="0" lang="en-US" sz="19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 algn="just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9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rearea de documente utile pentru managementul </a:t>
                      </a:r>
                      <a:r>
                        <a:rPr b="0" lang="ro-RO" sz="19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nităţii de Învăţare</a:t>
                      </a:r>
                      <a:r>
                        <a:rPr b="0" lang="en-US" sz="19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 algn="just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9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rezentarea Portofoliului </a:t>
                      </a:r>
                      <a:r>
                        <a:rPr b="0" lang="ro-RO" sz="19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nităţii de Învăţar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 algn="just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9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valuarea cursului </a:t>
                      </a:r>
                      <a:r>
                        <a:rPr b="0" lang="en-US" sz="19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ntel</a:t>
                      </a:r>
                      <a:r>
                        <a:rPr b="0" lang="en-US" sz="1900" spc="-1" strike="noStrike" baseline="30000">
                          <a:solidFill>
                            <a:srgbClr val="0860a8"/>
                          </a:solidFill>
                          <a:latin typeface="Verdana"/>
                        </a:rPr>
                        <a:t>®</a:t>
                      </a:r>
                      <a:r>
                        <a:rPr b="0" lang="en-US" sz="19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Teach P</a:t>
                      </a:r>
                      <a:r>
                        <a:rPr b="0" lang="ro-RO" sz="19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darea în societatea cunoaşterii</a:t>
                      </a:r>
                      <a:r>
                        <a:rPr b="0" lang="ro-RO" sz="19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13920" y="4095360"/>
            <a:ext cx="8534520" cy="191916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txBody>
          <a:bodyPr rIns="0" tIns="91440" bIns="91440" anchor="t">
            <a:normAutofit/>
          </a:bodyPr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Întrebare esenţială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ate fi cel mai eficient utilizată tehnologia, pentru a susţine şi evalua achiziţiile elevilor 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Întrebările modulului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pregăti şi cum pot facilita o prezentare eficientă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oferi feedback constructiv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CDBA-8A90-4669-89D5-101366A8E3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85720" y="155520"/>
            <a:ext cx="83232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 8: Prezentarea portofoliilor Unităţilor de Învăţare</a:t>
            </a:r>
            <a:br>
              <a:rPr sz="1000"/>
            </a:b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Practici Pedagogice: Managementul clasei şi activităţile de predare într-un mediu de învăţare care utilizează tehnologie avansată (8.01)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3120" y="1628640"/>
            <a:ext cx="8637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68200"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iscutaţi: </a:t>
            </a:r>
            <a:r>
              <a:rPr b="1" lang="ro-RO" sz="2100" spc="-1" strike="noStrike">
                <a:solidFill>
                  <a:srgbClr val="0860a8"/>
                </a:solidFill>
                <a:latin typeface="Verdana"/>
              </a:rPr>
              <a:t>Obstacole de trecut în utilizarea tehnologiei</a:t>
            </a:r>
            <a:endParaRPr b="0" lang="en-US" sz="2100" spc="-1" strike="noStrike">
              <a:solidFill>
                <a:srgbClr val="0860a8"/>
              </a:solidFill>
              <a:latin typeface="Verdana"/>
            </a:endParaRPr>
          </a:p>
          <a:p>
            <a:pPr lvl="1" marL="268200" indent="-266760" algn="just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Grupa 1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sunt cele mai bune practici pentru administrarea calculatoarelor într-o clasă activă? Folosiţi întrebările de la pagina 8.01 pentru a vă ghida discuţia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68200" indent="-266760" algn="just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Grupa 2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care sunt cele mai bune practici pentru gestionarea folosirii calculatoarelor de către elevi atunci când lucreză într-un laborator. Enumeraţi problemele posibile şi discutaţi strategii care pot fi folosite pentru a preveni sau rezolva fiecare problemă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6820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68200" indent="-266760" algn="just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Grupa 3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rapid la metode de administrare, salvare şi transfer al directoarelor, astfel încât elevii să le poată localiza şi accesa indiferent de sistemul de operare sau de programul softw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84A9-B897-4021-BCB6-17833D7F6F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Modul 8: Prezentarea portofoliilor unităţilor de învăţare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2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1: Utilizarea tehnologiei în instrui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417600" y="1454040"/>
            <a:ext cx="8551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lvl="1" marL="330480" indent="-329040" algn="just">
              <a:tabLst>
                <a:tab algn="l" pos="0"/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: Planificarea administrării resurselor tehnologice în contextul activităţilor de învăţare (8.03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30480" indent="-329040" algn="just">
              <a:buClr>
                <a:srgbClr val="0860a8"/>
              </a:buClr>
              <a:buSzPct val="125000"/>
              <a:buFont typeface="Times"/>
              <a:buChar char="•"/>
              <a:tabLst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e modalităţi de sprijin puteţi oferi elevilor pentru valorificarea resurselor tehnologice în activităţile din cadrul proiectelor? Ce elemente sau documente ar facilita implementarea unităţii de învăţare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30480" indent="-329040" algn="just">
              <a:tabLst>
                <a:tab algn="l" pos="0"/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48640" indent="-311040" algn="just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AutoNum type="arabicPeriod"/>
              <a:tabLst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nalizaţi exemplele de documente de administrare din director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Modulul 8, Activitatea 1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, de pe CD-ul cu resurse curricul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48640" indent="-311040" algn="just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AutoNum type="arabicPeriod"/>
              <a:tabLst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ccesaţi site-uri web pentru ponturi şi idei despre managementul calculatoarelor (opţional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48640" indent="-311040" algn="just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AutoNum type="arabicPeriod"/>
              <a:tabLst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aţi putea încorpora aceste idei sau resurse într-o unitate de învăţare sau în procesul de instruir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48640" indent="-311040" algn="just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AutoNum type="arabicPeriod"/>
              <a:tabLst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e elemente sau ce documente aţi putea elabora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30480" indent="-3290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30480" indent="-329040" algn="just">
              <a:tabLst>
                <a:tab algn="l" pos="0"/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2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: Elaborarea documentelor de administrare (8.04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30480" indent="-329040" algn="just">
              <a:buClr>
                <a:srgbClr val="0860a8"/>
              </a:buClr>
              <a:buSzPct val="125000"/>
              <a:buFont typeface="Times"/>
              <a:buChar char="•"/>
              <a:tabLst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laboraţi sau revizuiţi documentele de administrare de pe CD-ul cu resurse curriculare pentru unitatea de învăţare şi salvaţi aceste documente în director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Asistenţă_unitat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in Portofoliul personal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30480" indent="-329040" algn="just">
              <a:tabLst>
                <a:tab algn="l" pos="0"/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BDB7-C41B-4D84-900D-F5F309B610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Modul 8: Prezentarea portofoliilor unităţilor de învăţare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2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2: Planificarea unei prezentări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30 min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3308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 algn="just">
              <a:spcBef>
                <a:spcPts val="901"/>
              </a:spcBef>
              <a:buNone/>
              <a:tabLst>
                <a:tab algn="l" pos="0"/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Prezentarea proiectelor elevilor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8.05–8.06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 algn="just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uteţi folosi evenimente cum ar fi o expoziţie de proiecte, pentru a permite comunităţii care participă să ofere feedback elevilor şi să sărbătorească realizările lor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 algn="just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olosind ideile de metode prezentate la pagina 8.05 discutaţi următoarele întrebări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 algn="just">
              <a:spcBef>
                <a:spcPts val="400"/>
              </a:spcBef>
              <a:buNone/>
              <a:tabLst>
                <a:tab algn="l" pos="0"/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1. Care dintre următoarele idei de prezentare ar putea fi cel mai uşor încorporate în instruire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 algn="just">
              <a:spcBef>
                <a:spcPts val="400"/>
              </a:spcBef>
              <a:buNone/>
              <a:tabLst>
                <a:tab algn="l" pos="0"/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2. De ce aţi avea nevoie pentru a pregăti elevii pentru o prezentare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 algn="just">
              <a:spcBef>
                <a:spcPts val="400"/>
              </a:spcBef>
              <a:buNone/>
              <a:tabLst>
                <a:tab algn="l" pos="0"/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3. Cum îi puteţi ajuta pe elevi să ofere feedback constructiv colegilor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 algn="just">
              <a:spcBef>
                <a:spcPts val="400"/>
              </a:spcBef>
              <a:buNone/>
              <a:tabLst>
                <a:tab algn="l" pos="0"/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4. Ce strategii aţi putea folosi pentru a vă asigura că elevii folosesc feedback-ul primit de la colegi, precum şi propriile evaluări, pentru a-şi îmbunătăţi activitatea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B3B4-53F0-4325-8582-14DF55FFF0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31560" y="352080"/>
            <a:ext cx="86216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Pregătirea pentru prezentarea portofoliulu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(8.06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Opţiunea 1: Folosirea Wiki pentru prezentarea portofoliului dvs.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8.07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1. Mergeţi la pagina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wik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____________________ şi conectaţi-vă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2. Creaţi pagina de prezentare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wik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, urmărind recomandările de la pagina 8.07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3. Aveţi mai multe posibilităţi de a primi feedback în timp ce prezentaţi portofoliul unităţii, alegeţi una din sugestiile de la paginile 8.07-8.0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Opţiunea 2: Crearea unui portofoliu electronic offlin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8.0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1. Deschideţi formatul de prezentare "Portofoliu electronic" din director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Modulul 8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Activitatea 2,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 pe CD-ul cu resurse curricular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2. Urmaţi instrucţiunile de pe prima listă pentru a lega prin hyperlink fiecare intr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subtitlu) de directorul corespunzător: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120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Planul unităţi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120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Evaluarea sumativ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120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Exemple ale activităţii elevilor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120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Suport pentru elevi sau resurse de facilitar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120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rice alte documente pe care aţi dori să le împărtăşiţi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3. Adăugaţi texte şi legături suplimentare, dacă este nevoi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4. Salvaţi prezentarea în nivelul superior al directorului dumneavoastră "Portofoliu"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6816-9778-485D-B763-3EC1D795D3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73080"/>
            <a:ext cx="817056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 8: Prezentarea portofoliilor unităţilor de învăţare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3: Prezentarea portofoliului Unităţii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 oră, 50 de minute)</a:t>
            </a:r>
            <a:br>
              <a:rPr sz="1600"/>
            </a:b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6160" y="1342800"/>
            <a:ext cx="873612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copul acestei prezentări este de a împărtăşi produsele finale cu colegii şi de a vedea ce au elaborat ei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 asemenea, puteţi să oferiţi şi să primiţi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feedback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cu privire la punctele principale ale portofoliilor şi la aspectele pe care le puteţi îmbunătăţ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furniza feedback la o prezentare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wik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, puteţi folosi una dintre următoarele meto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Notaţi ideile pe sub-pagina wiki a celui care prezintă, folosind reţeta de la pagina 8.09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onsemnaţi reacţiile în document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Formular de feedback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din director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Modulul 8, Activitatea 3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 pe CD-ul cu resurse curriculare, asupra prezentării şi apoi încărcaţi-l pe pagina wiki a celui care prezintă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rmaţi legătura din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wik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 celui care prezintă la pagina de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blog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şi furnizaţi feedback drept răspuns la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blo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ompletaţi un formular tipărit de feedback asupra prezentării, luat din manual sau tipărit din director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Modulul 8, Activitatea 3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 pe CD-ul cu resurse curricular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618C-4173-47DD-97AA-593F009642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Claudia</cp:lastModifiedBy>
  <cp:lastPrinted>2006-11-14T00:45:04Z</cp:lastPrinted>
  <dcterms:modified xsi:type="dcterms:W3CDTF">2007-08-21T12:01:24Z</dcterms:modified>
  <cp:revision>142</cp:revision>
  <dc:subject/>
  <dc:title>Presentation Title Goes Here</dc:title>
</cp:coreProperties>
</file>